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rojctor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A63-F3C5-4014-9340-5F658B0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993-331F-4755-9B25-08E12A3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9A6-85E5-4E9F-997C-558E668B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FFD-81E9-41EC-ACAE-27A324E5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BEA-A54C-4FDB-96E0-07D3600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9F0-0FAC-408A-B743-2DAF531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80C-9A81-4DD4-AB70-5A21D77E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DD3-3AB2-420A-A4B4-CF52BDEE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2A6-0CEE-4DC2-81C1-F2756532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0D3-7BBC-4903-A641-4FCBDD1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9C8-C689-4092-9F26-FB2F81C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FDB-6129-4B88-807A-9AD235F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17F8-720A-4A33-A15D-C8F362C8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SHMAL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isty McKe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p I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4600" y="26665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ing D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26665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Crisp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320547189_de1ae3a041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248520" cy="4162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571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’m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mores-main_Full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78160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Life Size 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rshmallows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ake A Delightful Tr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e Excel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Multiple Dess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Really Yum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I Mention How Good They Are to E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9000" y="289548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ts of Sug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6765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let’s forget those because marshmallows are delicio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B.C.—Egypt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867910-Travel_Picture-Walk_like_an_Egyptian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hmallow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aea Officina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rshmellowWeb" descr=""/>
          <p:cNvPicPr/>
          <p:nvPr/>
        </p:nvPicPr>
        <p:blipFill>
          <a:blip r:embed="rId2"/>
          <a:stretch/>
        </p:blipFill>
        <p:spPr>
          <a:xfrm>
            <a:off x="4867200" y="1981080"/>
            <a:ext cx="3371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In 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to Europe, North Africa, and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il Pieces of Root Pulp and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kuva" descr=""/>
          <p:cNvPicPr/>
          <p:nvPr/>
        </p:nvPicPr>
        <p:blipFill>
          <a:blip r:embed="rId2"/>
          <a:stretch/>
        </p:blipFill>
        <p:spPr>
          <a:xfrm>
            <a:off x="600120" y="152388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x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the 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e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n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 P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ch Mogu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r14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3066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usion Process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atin and Other Whipping Agents Replace Marshmallow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5640" y="2361960"/>
            <a:ext cx="6172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te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lsify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v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olve Sugar and Corn Syr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gg White/ Gela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Fl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1:45:49Z</dcterms:created>
  <dc:creator>Kevin McKeever</dc:creator>
  <dc:description/>
  <dc:language>en-US</dc:language>
  <cp:lastModifiedBy>Kevin McKeever</cp:lastModifiedBy>
  <dcterms:modified xsi:type="dcterms:W3CDTF">2008-05-09T04:45:02Z</dcterms:modified>
  <cp:revision>2</cp:revision>
  <dc:subject/>
  <dc:title>MARSHMALLOWS</dc:title>
</cp:coreProperties>
</file>